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644-B96A-43F6-8C70-80BC7D77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37F-45C8-405D-ADA7-0174336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3ED-72FB-430A-BEFE-2CA09387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FC7-69CC-4740-AFAF-45438023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F5C-E4B0-4E7C-8CA9-9FD49666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57B-DD46-4B2E-A3D9-C4132C4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D64-6005-448D-B585-16391E2E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BAC-9468-4CD3-BCC3-7A7D994C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6E7-4770-4F82-BE5E-35FC6B72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E3D-0421-4C2D-8F6B-F28E0BC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ED0-D9F9-4AF8-93CE-673929A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F1B-1785-4BE4-9C83-E868D44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396-E1FA-44D3-BF9A-923CE330304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rot="21399000">
            <a:off x="178920" y="18900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21361200">
            <a:off x="323640" y="404280"/>
            <a:ext cx="1871640" cy="2376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4"/>
          <p:cNvSpPr/>
          <p:nvPr/>
        </p:nvSpPr>
        <p:spPr>
          <a:xfrm flipV="1">
            <a:off x="8101080" y="1341360"/>
            <a:ext cx="0" cy="511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755640" y="2852640"/>
            <a:ext cx="0" cy="360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755640" y="645336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324000" y="2205000"/>
            <a:ext cx="8648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Il Sedicissimo Compleano 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i Luci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2195640" y="134136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2"/>
          <p:cNvSpPr txBox="1"/>
          <p:nvPr/>
        </p:nvSpPr>
        <p:spPr>
          <a:xfrm>
            <a:off x="755640" y="5715000"/>
            <a:ext cx="2030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9" name="WordArt 23"/>
          <p:cNvSpPr txBox="1"/>
          <p:nvPr/>
        </p:nvSpPr>
        <p:spPr>
          <a:xfrm>
            <a:off x="2928960" y="5715000"/>
            <a:ext cx="15652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0" name="WordArt 24"/>
          <p:cNvSpPr txBox="1"/>
          <p:nvPr/>
        </p:nvSpPr>
        <p:spPr>
          <a:xfrm>
            <a:off x="4648320" y="5734080"/>
            <a:ext cx="17809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1" name="WordArt 25"/>
          <p:cNvSpPr txBox="1"/>
          <p:nvPr/>
        </p:nvSpPr>
        <p:spPr>
          <a:xfrm>
            <a:off x="6500880" y="5734080"/>
            <a:ext cx="1571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73760" y="1644120"/>
            <a:ext cx="5400360" cy="30200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Hailey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ind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ffr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Fion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ndice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han-il raggazo di Ca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cy- l’amico del cuore di Na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430200" y="2652120"/>
            <a:ext cx="5537520" cy="338580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ll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-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-il fratello di 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Sally- La sorella di William 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atasha- la sorella di Sally, Wil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ina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aree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achael- l’amica del cuore di Ma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97680" y="549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443640" y="580536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37440" y="188280"/>
            <a:ext cx="494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Spes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79280" y="593640"/>
            <a:ext cx="360072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piatt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bicchier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La posate-novanta coltelli, forchette e cucchi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anta se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glie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can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Mazzi di f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Venti pacci di pall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renta stelle 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fu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140360" y="90720"/>
            <a:ext cx="3744720" cy="594612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Il Ci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infresco da lousiana Bruchetti ristor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e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Carbo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asta: fettuccini, penne, spaghetti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sala di gr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stecca e pata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orta- compleanno cioc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( Buon Complean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G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 al form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96" name="Picture 12" descr="birthday_cake_animated1"/>
          <p:cNvPicPr/>
          <p:nvPr/>
        </p:nvPicPr>
        <p:blipFill>
          <a:blip r:embed="rId1"/>
          <a:stretch/>
        </p:blipFill>
        <p:spPr>
          <a:xfrm>
            <a:off x="7308720" y="292428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 rot="213492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84160" y="183240"/>
            <a:ext cx="60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Music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68360" y="2205000"/>
            <a:ext cx="4896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 u="sng">
                <a:solidFill>
                  <a:srgbClr val="9900cc"/>
                </a:solidFill>
                <a:uFillTx/>
                <a:latin typeface="Curlz MT"/>
              </a:rPr>
              <a:t>Tipo di mus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class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p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7" name="02 Play My Music.mp3" descr=""/>
          <p:cNvPicPr/>
          <p:nvPr/>
        </p:nvPicPr>
        <p:blipFill>
          <a:blip r:embed="rId1"/>
          <a:stretch/>
        </p:blipFill>
        <p:spPr>
          <a:xfrm>
            <a:off x="5643720" y="5000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02 Clair de lune.mp3" descr=""/>
          <p:cNvPicPr/>
          <p:nvPr/>
        </p:nvPicPr>
        <p:blipFill>
          <a:blip r:embed="rId2"/>
          <a:stretch/>
        </p:blipFill>
        <p:spPr>
          <a:xfrm>
            <a:off x="607212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23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 rot="21361200">
            <a:off x="25056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5" name="Line 7"/>
          <p:cNvSpPr/>
          <p:nvPr/>
        </p:nvSpPr>
        <p:spPr>
          <a:xfrm>
            <a:off x="82692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817236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2124000" y="1484280"/>
            <a:ext cx="6050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arty invite"/>
          <p:cNvPicPr/>
          <p:nvPr/>
        </p:nvPicPr>
        <p:blipFill>
          <a:blip r:embed="rId1"/>
          <a:stretch/>
        </p:blipFill>
        <p:spPr>
          <a:xfrm>
            <a:off x="2124000" y="0"/>
            <a:ext cx="4848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987640" y="2924280"/>
            <a:ext cx="3168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3640" y="2924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urlz MT"/>
              </a:rPr>
              <a:t>Feste in Bianco  e Ne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ublication1"/>
          <p:cNvPicPr/>
          <p:nvPr/>
        </p:nvPicPr>
        <p:blipFill>
          <a:blip r:embed="rId1"/>
          <a:srcRect l="0" t="0" r="0" b="2438"/>
          <a:stretch/>
        </p:blipFill>
        <p:spPr>
          <a:xfrm>
            <a:off x="190800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7020000" y="5950080"/>
            <a:ext cx="20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4" name="Picture 6" descr="invite 2"/>
          <p:cNvPicPr/>
          <p:nvPr/>
        </p:nvPicPr>
        <p:blipFill>
          <a:blip r:embed="rId1"/>
          <a:srcRect l="0" t="0" r="0" b="5222"/>
          <a:stretch/>
        </p:blipFill>
        <p:spPr>
          <a:xfrm>
            <a:off x="1692360" y="0"/>
            <a:ext cx="51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24000" y="-439920"/>
            <a:ext cx="3671640" cy="85064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ilvia- La mamm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berto-La padre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nabella –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le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olina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onio-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hristos- 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seph-Il non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riana-La non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rah- La zia di Lucia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tephano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Isabella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1557360"/>
            <a:ext cx="3311640" cy="777492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uel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m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eila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thew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ly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ylor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sh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smin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r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re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34320" y="0"/>
            <a:ext cx="598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La Famig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00720" y="389160"/>
            <a:ext cx="4465440" cy="63118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cas- 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- l’amico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ophie-L’amica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lexandra-l’amic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usan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rystal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Valentin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Bridget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arah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eliss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irsty- il compang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elly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981000"/>
            <a:ext cx="3527280" cy="81406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hloe- l’amica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hillip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tonia-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ke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us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isa- l’amico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a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Ni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teve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uli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drew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ia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er- il ragazzo di Ol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14532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242640" y="1119960"/>
            <a:ext cx="5199120" cy="558036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chael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laire- l’amica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nnor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illy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lly- l’amica della famg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rent- l’amico della famigli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ophia- l’amica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therin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cki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yle- l’amico di Jac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tch- l’amico di K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rea- l’amica di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hony- il raggazo di B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vid-Il fratello di Ant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ob- il cugino di Anthony e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9260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74120" y="12240"/>
            <a:ext cx="583488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sm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auren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Elizabeth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Patricia-La cugina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am-Il cugino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Georgi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ren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-la raggaza di D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berly-L’amica di Kim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lana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arlo-L’amico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alie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niella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yan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ss-La raggaza di 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ke-Il fratello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usie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astasia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1:35:19Z</dcterms:created>
  <dc:creator>Administrator</dc:creator>
  <dc:description/>
  <dc:language>en-US</dc:language>
  <cp:lastModifiedBy>Samantha</cp:lastModifiedBy>
  <dcterms:modified xsi:type="dcterms:W3CDTF">2008-11-07T13:33:56Z</dcterms:modified>
  <cp:revision>12</cp:revision>
  <dc:subject/>
  <dc:title>Slide 1</dc:title>
</cp:coreProperties>
</file>