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3BA4-BB2A-4236-8BFD-BCE9E429C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3C94-A0DF-4015-8CEC-DC093CB05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4369-816F-4AC3-9ED1-191C1B6CD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4680-2E55-4046-8915-DD2BDC75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B2AB-DC8A-448F-8507-8A7577C21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B1B1-B0A0-46A7-AAB0-8F1589DF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1A30-9B1D-4380-9B13-B2855ED9E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7ECD-1249-4044-B789-D5AB084B7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4D60-D6E2-4D7F-9751-299010E1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D449-C0C3-4E57-910C-1771F053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D098-85D0-4142-86CF-CE1ABCDF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6DD1-2F97-485D-ADAF-C7DBECD2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BDFD-1493-4237-8811-7F3A5CC49298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 rot="21399000">
            <a:off x="178920" y="18900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7"/>
          <p:cNvSpPr/>
          <p:nvPr/>
        </p:nvSpPr>
        <p:spPr>
          <a:xfrm rot="21361200">
            <a:off x="323640" y="404280"/>
            <a:ext cx="1871640" cy="237672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14"/>
          <p:cNvSpPr/>
          <p:nvPr/>
        </p:nvSpPr>
        <p:spPr>
          <a:xfrm flipV="1">
            <a:off x="8101080" y="1341360"/>
            <a:ext cx="0" cy="51120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2"/>
          <p:cNvSpPr/>
          <p:nvPr/>
        </p:nvSpPr>
        <p:spPr>
          <a:xfrm>
            <a:off x="755640" y="2852640"/>
            <a:ext cx="0" cy="36007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3"/>
          <p:cNvSpPr/>
          <p:nvPr/>
        </p:nvSpPr>
        <p:spPr>
          <a:xfrm>
            <a:off x="755640" y="645336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5"/>
          <p:cNvSpPr txBox="1"/>
          <p:nvPr/>
        </p:nvSpPr>
        <p:spPr>
          <a:xfrm>
            <a:off x="324000" y="2205000"/>
            <a:ext cx="86486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Il Sedicissimo Compleano 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di Luci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7" name="Line 15"/>
          <p:cNvSpPr/>
          <p:nvPr/>
        </p:nvSpPr>
        <p:spPr>
          <a:xfrm flipH="1">
            <a:off x="2195640" y="134136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WordArt 22"/>
          <p:cNvSpPr txBox="1"/>
          <p:nvPr/>
        </p:nvSpPr>
        <p:spPr>
          <a:xfrm>
            <a:off x="755640" y="5715000"/>
            <a:ext cx="2030400" cy="6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49" name="WordArt 23"/>
          <p:cNvSpPr txBox="1"/>
          <p:nvPr/>
        </p:nvSpPr>
        <p:spPr>
          <a:xfrm>
            <a:off x="2928960" y="5715000"/>
            <a:ext cx="156528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0" name="WordArt 24"/>
          <p:cNvSpPr txBox="1"/>
          <p:nvPr/>
        </p:nvSpPr>
        <p:spPr>
          <a:xfrm>
            <a:off x="4648320" y="5734080"/>
            <a:ext cx="178092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1" name="WordArt 25"/>
          <p:cNvSpPr txBox="1"/>
          <p:nvPr/>
        </p:nvSpPr>
        <p:spPr>
          <a:xfrm>
            <a:off x="6500880" y="5734080"/>
            <a:ext cx="1571400" cy="5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073760" y="1644120"/>
            <a:ext cx="5400360" cy="30200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Hailey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ind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ffr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ey-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Fion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ndice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han-il raggazo di Ca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cy- l’amico del cuore di Nat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-430200" y="2652120"/>
            <a:ext cx="5537520" cy="338580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ll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-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-il fratello di 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Sally- La sorella di William e W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atasha- la sorella di Sally, Will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Will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ina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aree- 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achael- l’amica del cuore di Ma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97680" y="549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6443640" y="580536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Spes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-37440" y="188280"/>
            <a:ext cx="494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Spes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179280" y="593640"/>
            <a:ext cx="360072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piatt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ovanta bicchieri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La posate-novanta coltelli, forchette e cucchia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anta se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tavoglie di plas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cande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Otto Mazzi di fi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Venti pacci di pallon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renta stelle nero e bian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ieci fu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140360" y="90720"/>
            <a:ext cx="3744720" cy="594612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Il Ci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cc"/>
              </a:buClr>
              <a:buFont typeface="Symbol" charset="2"/>
              <a:buChar char=""/>
              <a:tabLst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Rinfresco da lousiana Bruchetti ristor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Men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fun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Carbon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asta: fettuccini, penne, spaghetti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Pollo e sala di gr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Bistecca e patat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Torta- compleanno cioccol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( Buon Compleann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Gel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3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MS Mincho"/>
              </a:rPr>
              <a:t>Dolce al formag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10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96" name="Picture 12" descr="birthday_cake_animated1"/>
          <p:cNvPicPr/>
          <p:nvPr/>
        </p:nvPicPr>
        <p:blipFill>
          <a:blip r:embed="rId1"/>
          <a:stretch/>
        </p:blipFill>
        <p:spPr>
          <a:xfrm>
            <a:off x="7308720" y="2924280"/>
            <a:ext cx="16192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5"/>
          <p:cNvSpPr/>
          <p:nvPr/>
        </p:nvSpPr>
        <p:spPr>
          <a:xfrm rot="21399000">
            <a:off x="25056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4"/>
          <p:cNvSpPr txBox="1"/>
          <p:nvPr/>
        </p:nvSpPr>
        <p:spPr>
          <a:xfrm rot="213492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a Musica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1784160" y="183240"/>
            <a:ext cx="6031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9000" spc="-1" strike="noStrike" u="sng">
                <a:solidFill>
                  <a:srgbClr val="9900cc"/>
                </a:solidFill>
                <a:uFillTx/>
                <a:latin typeface="Curlz MT"/>
                <a:ea typeface="MS Mincho"/>
              </a:rPr>
              <a:t>La Musica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MS Mincho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268360" y="2205000"/>
            <a:ext cx="489600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6000" spc="-1" strike="noStrike" u="sng">
                <a:solidFill>
                  <a:srgbClr val="9900cc"/>
                </a:solidFill>
                <a:uFillTx/>
                <a:latin typeface="Curlz MT"/>
              </a:rPr>
              <a:t>Tipo di music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classico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5000" spc="-1" strike="noStrike">
                <a:solidFill>
                  <a:srgbClr val="9900cc"/>
                </a:solidFill>
                <a:latin typeface="Curlz MT"/>
              </a:rPr>
              <a:t>*il pop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WordArt 6"/>
          <p:cNvSpPr txBox="1"/>
          <p:nvPr/>
        </p:nvSpPr>
        <p:spPr>
          <a:xfrm>
            <a:off x="6443640" y="5932440"/>
            <a:ext cx="2428920" cy="80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107" name="02 Play My Music.mp3" descr=""/>
          <p:cNvPicPr/>
          <p:nvPr/>
        </p:nvPicPr>
        <p:blipFill>
          <a:blip r:embed="rId1"/>
          <a:stretch/>
        </p:blipFill>
        <p:spPr>
          <a:xfrm>
            <a:off x="5643720" y="50007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02 Clair de lune.mp3" descr=""/>
          <p:cNvPicPr/>
          <p:nvPr/>
        </p:nvPicPr>
        <p:blipFill>
          <a:blip r:embed="rId2"/>
          <a:stretch/>
        </p:blipFill>
        <p:spPr>
          <a:xfrm>
            <a:off x="6072120" y="38577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7954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02353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 rot="21361200">
            <a:off x="25056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L'Invito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sp>
        <p:nvSpPr>
          <p:cNvPr id="55" name="Line 7"/>
          <p:cNvSpPr/>
          <p:nvPr/>
        </p:nvSpPr>
        <p:spPr>
          <a:xfrm>
            <a:off x="82692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8"/>
          <p:cNvSpPr/>
          <p:nvPr/>
        </p:nvSpPr>
        <p:spPr>
          <a:xfrm>
            <a:off x="82692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9"/>
          <p:cNvSpPr/>
          <p:nvPr/>
        </p:nvSpPr>
        <p:spPr>
          <a:xfrm flipV="1">
            <a:off x="817236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0"/>
          <p:cNvSpPr/>
          <p:nvPr/>
        </p:nvSpPr>
        <p:spPr>
          <a:xfrm flipH="1">
            <a:off x="2124000" y="1484280"/>
            <a:ext cx="60501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party invite"/>
          <p:cNvPicPr/>
          <p:nvPr/>
        </p:nvPicPr>
        <p:blipFill>
          <a:blip r:embed="rId1"/>
          <a:stretch/>
        </p:blipFill>
        <p:spPr>
          <a:xfrm>
            <a:off x="2124000" y="0"/>
            <a:ext cx="484848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2987640" y="2924280"/>
            <a:ext cx="3168720" cy="165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3203640" y="2924280"/>
            <a:ext cx="28083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800" spc="-1" strike="noStrike">
                <a:solidFill>
                  <a:srgbClr val="000000"/>
                </a:solidFill>
                <a:latin typeface="Curlz MT"/>
              </a:rPr>
              <a:t>Feste in Bianco  e Ner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Publication1"/>
          <p:cNvPicPr/>
          <p:nvPr/>
        </p:nvPicPr>
        <p:blipFill>
          <a:blip r:embed="rId1"/>
          <a:srcRect l="0" t="0" r="0" b="2438"/>
          <a:stretch/>
        </p:blipFill>
        <p:spPr>
          <a:xfrm>
            <a:off x="1908000" y="0"/>
            <a:ext cx="4970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5"/>
          <p:cNvSpPr txBox="1"/>
          <p:nvPr/>
        </p:nvSpPr>
        <p:spPr>
          <a:xfrm>
            <a:off x="7020000" y="5950080"/>
            <a:ext cx="20509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5840">
                  <a:solidFill>
                    <a:srgbClr val="ffff00"/>
                  </a:solidFill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Ritorno</a:t>
            </a:r>
            <a:endParaRPr b="1" lang="en-US" sz="4800" spc="1" strike="noStrike">
              <a:ln w="15840">
                <a:solidFill>
                  <a:srgbClr val="ffff00"/>
                </a:solidFill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  <p:pic>
        <p:nvPicPr>
          <p:cNvPr id="64" name="Picture 6" descr="invite 2"/>
          <p:cNvPicPr/>
          <p:nvPr/>
        </p:nvPicPr>
        <p:blipFill>
          <a:blip r:embed="rId1"/>
          <a:srcRect l="0" t="0" r="0" b="5222"/>
          <a:stretch/>
        </p:blipFill>
        <p:spPr>
          <a:xfrm>
            <a:off x="1692360" y="0"/>
            <a:ext cx="511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5"/>
          <p:cNvSpPr/>
          <p:nvPr/>
        </p:nvSpPr>
        <p:spPr>
          <a:xfrm rot="21399000">
            <a:off x="178920" y="333360"/>
            <a:ext cx="2952720" cy="5111640"/>
          </a:xfrm>
          <a:prstGeom prst="rect">
            <a:avLst/>
          </a:prstGeom>
          <a:solidFill>
            <a:srgbClr val="0099ff"/>
          </a:solidFill>
          <a:ln w="936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 rot="21361200">
            <a:off x="323640" y="549000"/>
            <a:ext cx="1871640" cy="2376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7"/>
          <p:cNvSpPr/>
          <p:nvPr/>
        </p:nvSpPr>
        <p:spPr>
          <a:xfrm>
            <a:off x="755640" y="2997360"/>
            <a:ext cx="0" cy="36003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755640" y="6597720"/>
            <a:ext cx="734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9"/>
          <p:cNvSpPr/>
          <p:nvPr/>
        </p:nvSpPr>
        <p:spPr>
          <a:xfrm flipV="1">
            <a:off x="8101080" y="1483920"/>
            <a:ext cx="0" cy="51116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195640" y="1484280"/>
            <a:ext cx="5905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4"/>
          <p:cNvSpPr txBox="1"/>
          <p:nvPr/>
        </p:nvSpPr>
        <p:spPr>
          <a:xfrm rot="21354600">
            <a:off x="1402920" y="1916280"/>
            <a:ext cx="6056280" cy="20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9080">
                  <a:solidFill>
                    <a:srgbClr val="ffff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urlz MT"/>
              </a:rPr>
              <a:t>Gli Invitati</a:t>
            </a:r>
            <a:endParaRPr b="1" lang="en-US" sz="5400" spc="1" strike="noStrike">
              <a:ln w="19080">
                <a:solidFill>
                  <a:srgbClr val="ffff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urlz MT"/>
              <a:ea typeface="Curlz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324000" y="-439920"/>
            <a:ext cx="3671640" cy="850644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ilvia- La mamm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berto-La padre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nabella –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elle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olina-La sorell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onio-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hristos- Il fratell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oseph-Il non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riana-La non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rah- La zia di Lucia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tephano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Isabella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5219640" y="1557360"/>
            <a:ext cx="3311640" cy="777492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uel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m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eila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athew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rly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am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ylor- il zi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ash- la zi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smine- la cugina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or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rey- Il cugino di Lu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1534320" y="0"/>
            <a:ext cx="5988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La Famigli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4500720" y="389160"/>
            <a:ext cx="4465440" cy="63118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cas- l’amico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- l’amico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ophie-L’amica del cu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lexandra-l’amica del cu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usan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rystal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Valentin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Bridget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arah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elissa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irsty- il compang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Kelly- il compagno di netb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4000" y="981000"/>
            <a:ext cx="3527280" cy="8140680"/>
          </a:xfrm>
          <a:prstGeom prst="rect">
            <a:avLst/>
          </a:prstGeom>
          <a:noFill/>
          <a:ln cap="rnd" w="38160">
            <a:solidFill>
              <a:srgbClr val="cc00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Chloe- l’amica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aulo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Phillip- 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tonia-l’amico di lavo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uke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Marcus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Lisa- l’amico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a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Nick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Steve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Juli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Andrew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ia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cc00ff"/>
                </a:solidFill>
                <a:latin typeface="Curlz MT"/>
                <a:ea typeface="ＭＳ Ｐゴシック"/>
              </a:rPr>
              <a:t>Oliver- il ragazzo di Oliv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314532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4"/>
          <p:cNvSpPr/>
          <p:nvPr/>
        </p:nvSpPr>
        <p:spPr>
          <a:xfrm>
            <a:off x="-242640" y="1119960"/>
            <a:ext cx="5199120" cy="558036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chael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laire- l’amica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onnor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illy- l’amic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lly- l’amica della famgi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Trent- l’amico della famiglia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ophia- l’amica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Catherin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ckie- l’amico di ba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yle- l’amico di Jack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Mitch- l’amico di K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rea- l’amica di Cather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thony- il raggazo di B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vid-Il fratello di Antho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Bob- il cugino di Anthony e Dav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192600" y="-171360"/>
            <a:ext cx="2792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000" spc="-1" strike="noStrike" u="sng">
                <a:solidFill>
                  <a:srgbClr val="9900cc"/>
                </a:solidFill>
                <a:uFillTx/>
                <a:latin typeface="Curlz MT"/>
                <a:ea typeface="ＭＳ Ｐゴシック"/>
              </a:rPr>
              <a:t>Amici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74120" y="12240"/>
            <a:ext cx="5834880" cy="6677640"/>
          </a:xfrm>
          <a:prstGeom prst="rect">
            <a:avLst/>
          </a:prstGeom>
          <a:noFill/>
          <a:ln cap="rnd" w="38160">
            <a:solidFill>
              <a:srgbClr val="9900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esman- l’amico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auren- l’amica di scu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Elizabeth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Patricia-La cugina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Liam-Il cugino di Elizab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Georgia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rren-L’amica di scu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-la raggaza di Dar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imberly-L’amica di Kim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lana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Karlo-L’amico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Natalie-L’amica di classe matem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Daniella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Ryan-L’amica di classe psicolo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ess-La raggaza di Ry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Jake-Il fratello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Susie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9900cc"/>
                </a:solidFill>
                <a:latin typeface="Curlz MT"/>
                <a:ea typeface="ＭＳ Ｐゴシック"/>
              </a:rPr>
              <a:t>Anastasia-L’amica del cuore di J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01:35:19Z</dcterms:created>
  <dc:creator>Administrator</dc:creator>
  <dc:description/>
  <dc:language>en-US</dc:language>
  <cp:lastModifiedBy>Samantha</cp:lastModifiedBy>
  <dcterms:modified xsi:type="dcterms:W3CDTF">2008-11-07T13:33:56Z</dcterms:modified>
  <cp:revision>12</cp:revision>
  <dc:subject/>
  <dc:title>Slide 1</dc:title>
</cp:coreProperties>
</file>