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7D04-3930-41EA-A2CC-6AD9A5EE6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FC55-A181-4E68-B209-B1DE9CE9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108D-BA37-4B9B-BC3C-3EF35548C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9E4E-E680-4967-B060-02B5A7D90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99E8-84A5-45CB-8C38-9BB6588B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9C5B-176B-45E9-8F4A-316B5F04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9F8E-1D34-49C5-938D-665D0F7B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FB3C-C6D6-4BA5-A972-D8EA5BBC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ABC3-F9C2-459B-9E6C-6971BEB5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0C74-B52F-4DDC-A180-DE04BDFD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D9FE-35AE-48CD-BC5F-18782359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A767-EFCD-401B-9DF6-79C854EC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94E3-0DE4-4B02-978F-E2371B6A70ED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 rot="21399000">
            <a:off x="178920" y="189000"/>
            <a:ext cx="2952720" cy="5111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 rot="21361200">
            <a:off x="323640" y="404280"/>
            <a:ext cx="1871640" cy="2376720"/>
          </a:xfrm>
          <a:prstGeom prst="rect">
            <a:avLst/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14"/>
          <p:cNvSpPr/>
          <p:nvPr/>
        </p:nvSpPr>
        <p:spPr>
          <a:xfrm flipV="1">
            <a:off x="8101080" y="1341360"/>
            <a:ext cx="0" cy="5112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2"/>
          <p:cNvSpPr/>
          <p:nvPr/>
        </p:nvSpPr>
        <p:spPr>
          <a:xfrm>
            <a:off x="755640" y="2852640"/>
            <a:ext cx="0" cy="3600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3"/>
          <p:cNvSpPr/>
          <p:nvPr/>
        </p:nvSpPr>
        <p:spPr>
          <a:xfrm>
            <a:off x="755640" y="6453360"/>
            <a:ext cx="7345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5"/>
          <p:cNvSpPr txBox="1"/>
          <p:nvPr/>
        </p:nvSpPr>
        <p:spPr>
          <a:xfrm>
            <a:off x="324000" y="2205000"/>
            <a:ext cx="864864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Il Sedicissimo Compleano </a:t>
            </a:r>
            <a:endParaRPr b="1" lang="en-US" sz="54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di Lucia</a:t>
            </a:r>
            <a:endParaRPr b="1" lang="en-US" sz="54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sp>
        <p:nvSpPr>
          <p:cNvPr id="47" name="Line 15"/>
          <p:cNvSpPr/>
          <p:nvPr/>
        </p:nvSpPr>
        <p:spPr>
          <a:xfrm flipH="1">
            <a:off x="2195640" y="1341360"/>
            <a:ext cx="5905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22"/>
          <p:cNvSpPr txBox="1"/>
          <p:nvPr/>
        </p:nvSpPr>
        <p:spPr>
          <a:xfrm>
            <a:off x="755640" y="5715000"/>
            <a:ext cx="20304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ffff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Gli Invitati</a:t>
            </a:r>
            <a:endParaRPr b="1" lang="en-US" sz="4800" spc="1" strike="noStrike">
              <a:ln w="15840">
                <a:solidFill>
                  <a:srgbClr val="ffff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sp>
        <p:nvSpPr>
          <p:cNvPr id="49" name="WordArt 23"/>
          <p:cNvSpPr txBox="1"/>
          <p:nvPr/>
        </p:nvSpPr>
        <p:spPr>
          <a:xfrm>
            <a:off x="2928960" y="5715000"/>
            <a:ext cx="15652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ffff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L'Invito</a:t>
            </a:r>
            <a:endParaRPr b="1" lang="en-US" sz="4800" spc="1" strike="noStrike">
              <a:ln w="15840">
                <a:solidFill>
                  <a:srgbClr val="ffff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sp>
        <p:nvSpPr>
          <p:cNvPr id="50" name="WordArt 24"/>
          <p:cNvSpPr txBox="1"/>
          <p:nvPr/>
        </p:nvSpPr>
        <p:spPr>
          <a:xfrm>
            <a:off x="4648320" y="5734080"/>
            <a:ext cx="1780920" cy="59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ffff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La Spesa</a:t>
            </a:r>
            <a:endParaRPr b="1" lang="en-US" sz="4800" spc="1" strike="noStrike">
              <a:ln w="15840">
                <a:solidFill>
                  <a:srgbClr val="ffff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sp>
        <p:nvSpPr>
          <p:cNvPr id="51" name="WordArt 25"/>
          <p:cNvSpPr txBox="1"/>
          <p:nvPr/>
        </p:nvSpPr>
        <p:spPr>
          <a:xfrm>
            <a:off x="6500880" y="5734080"/>
            <a:ext cx="15714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ffff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La Musica</a:t>
            </a:r>
            <a:endParaRPr b="1" lang="en-US" sz="4800" spc="1" strike="noStrike">
              <a:ln w="15840">
                <a:solidFill>
                  <a:srgbClr val="ffff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4073760" y="1644120"/>
            <a:ext cx="5400360" cy="3020040"/>
          </a:xfrm>
          <a:prstGeom prst="rect">
            <a:avLst/>
          </a:prstGeom>
          <a:noFill/>
          <a:ln cap="rnd" w="38160">
            <a:solidFill>
              <a:srgbClr val="cc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Hailey- l’amica di scuo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Belinda-l’amica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Jeffrey-l’amico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Joey-l’amico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Fiona-l’amica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Candice-l’amica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Nathan-il raggazo di Can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Darcy- l’amico del cuore di Nat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-430200" y="2652120"/>
            <a:ext cx="5537520" cy="3385800"/>
          </a:xfrm>
          <a:prstGeom prst="rect">
            <a:avLst/>
          </a:prstGeom>
          <a:noFill/>
          <a:ln cap="rnd" w="38160">
            <a:solidFill>
              <a:srgbClr val="cc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Bill- l’amico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William-l’amico del cu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Will-il fratello di Willi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Sally- La sorella di William e 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Natasha- la sorella di Sally, Will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Willi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Nina- l’amica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Maree- l’amica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Rachael- l’amica del cuore di Ma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697680" y="549360"/>
            <a:ext cx="279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0" spc="-1" strike="noStrike" u="sng">
                <a:solidFill>
                  <a:srgbClr val="9900cc"/>
                </a:solidFill>
                <a:uFillTx/>
                <a:latin typeface="Curlz MT"/>
                <a:ea typeface="ＭＳ Ｐゴシック"/>
              </a:rPr>
              <a:t>Amici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8"/>
          <p:cNvSpPr txBox="1"/>
          <p:nvPr/>
        </p:nvSpPr>
        <p:spPr>
          <a:xfrm>
            <a:off x="6443640" y="5805360"/>
            <a:ext cx="242892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ffff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Ritorno</a:t>
            </a:r>
            <a:endParaRPr b="1" lang="en-US" sz="4800" spc="1" strike="noStrike">
              <a:ln w="15840">
                <a:solidFill>
                  <a:srgbClr val="ffff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 rot="21399000">
            <a:off x="250560" y="333360"/>
            <a:ext cx="2952720" cy="5111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 rot="21361200">
            <a:off x="323640" y="549000"/>
            <a:ext cx="1871640" cy="2376360"/>
          </a:xfrm>
          <a:prstGeom prst="rect">
            <a:avLst/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7"/>
          <p:cNvSpPr/>
          <p:nvPr/>
        </p:nvSpPr>
        <p:spPr>
          <a:xfrm>
            <a:off x="755640" y="2997360"/>
            <a:ext cx="0" cy="360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755640" y="6597720"/>
            <a:ext cx="7345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9"/>
          <p:cNvSpPr/>
          <p:nvPr/>
        </p:nvSpPr>
        <p:spPr>
          <a:xfrm flipV="1">
            <a:off x="8101080" y="1483920"/>
            <a:ext cx="0" cy="5111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0"/>
          <p:cNvSpPr/>
          <p:nvPr/>
        </p:nvSpPr>
        <p:spPr>
          <a:xfrm flipH="1">
            <a:off x="2195640" y="1484280"/>
            <a:ext cx="5905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4"/>
          <p:cNvSpPr txBox="1"/>
          <p:nvPr/>
        </p:nvSpPr>
        <p:spPr>
          <a:xfrm rot="21354600">
            <a:off x="1402920" y="1916280"/>
            <a:ext cx="605628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La Spesa</a:t>
            </a:r>
            <a:endParaRPr b="1" lang="en-US" sz="54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-37440" y="188280"/>
            <a:ext cx="494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 u="sng">
                <a:solidFill>
                  <a:srgbClr val="9900cc"/>
                </a:solidFill>
                <a:uFillTx/>
                <a:latin typeface="Curlz MT"/>
                <a:ea typeface="MS Mincho"/>
              </a:rPr>
              <a:t>La Spesa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MS Mincho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179280" y="593640"/>
            <a:ext cx="3600720" cy="6677640"/>
          </a:xfrm>
          <a:prstGeom prst="rect">
            <a:avLst/>
          </a:prstGeom>
          <a:noFill/>
          <a:ln cap="rnd" w="38160">
            <a:solidFill>
              <a:srgbClr val="99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9900cc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Novanta piatti di pla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Novanta bicchieri di pla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La posate-novanta coltelli, forchette e cucchia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Ottanta se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Otto tav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Otto tavoglie di pla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Dieci cand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Otto Mazzi di fi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Venti pacci di pallo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nero e bian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Trenta stelle nero e bian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Dieci fuo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4140360" y="90720"/>
            <a:ext cx="3744720" cy="5946120"/>
          </a:xfrm>
          <a:prstGeom prst="rect">
            <a:avLst/>
          </a:prstGeom>
          <a:noFill/>
          <a:ln cap="rnd" w="38160">
            <a:solidFill>
              <a:srgbClr val="99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9900cc"/>
                </a:solidFill>
                <a:uFillTx/>
                <a:latin typeface="Curlz MT"/>
                <a:ea typeface="MS Mincho"/>
              </a:rPr>
              <a:t>Il Ci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Symbol" charset="2"/>
              <a:buChar char=""/>
              <a:tabLst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Rinfresco da lousiana Bruchetti ristor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Men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Pollo e fung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Carbon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Pasta: fettuccini, penne, spaghetti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Pollo e sala di gre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Bistecca e patat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Dol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Torta- compleanno cioccol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( Buon Compleann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Gel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Dolce al formag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10"/>
          <p:cNvSpPr txBox="1"/>
          <p:nvPr/>
        </p:nvSpPr>
        <p:spPr>
          <a:xfrm>
            <a:off x="6443640" y="5932440"/>
            <a:ext cx="242892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ffff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Ritorno</a:t>
            </a:r>
            <a:endParaRPr b="1" lang="en-US" sz="4800" spc="1" strike="noStrike">
              <a:ln w="15840">
                <a:solidFill>
                  <a:srgbClr val="ffff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pic>
        <p:nvPicPr>
          <p:cNvPr id="96" name="Picture 12" descr="birthday_cake_animated1"/>
          <p:cNvPicPr/>
          <p:nvPr/>
        </p:nvPicPr>
        <p:blipFill>
          <a:blip r:embed="rId1"/>
          <a:stretch/>
        </p:blipFill>
        <p:spPr>
          <a:xfrm>
            <a:off x="7308720" y="2924280"/>
            <a:ext cx="161928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5"/>
          <p:cNvSpPr/>
          <p:nvPr/>
        </p:nvSpPr>
        <p:spPr>
          <a:xfrm rot="21399000">
            <a:off x="250560" y="333360"/>
            <a:ext cx="2952720" cy="5111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 rot="21361200">
            <a:off x="323640" y="549000"/>
            <a:ext cx="1871640" cy="2376360"/>
          </a:xfrm>
          <a:prstGeom prst="rect">
            <a:avLst/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>
            <a:off x="755640" y="2997360"/>
            <a:ext cx="0" cy="360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755640" y="6597720"/>
            <a:ext cx="7345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 flipV="1">
            <a:off x="8101080" y="1483920"/>
            <a:ext cx="0" cy="5111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0"/>
          <p:cNvSpPr/>
          <p:nvPr/>
        </p:nvSpPr>
        <p:spPr>
          <a:xfrm flipH="1">
            <a:off x="2195640" y="1484280"/>
            <a:ext cx="5905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 rot="21349200">
            <a:off x="1402920" y="1916280"/>
            <a:ext cx="605628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La Musica</a:t>
            </a:r>
            <a:endParaRPr b="1" lang="en-US" sz="54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1784160" y="183240"/>
            <a:ext cx="603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0" spc="-1" strike="noStrike" u="sng">
                <a:solidFill>
                  <a:srgbClr val="9900cc"/>
                </a:solidFill>
                <a:uFillTx/>
                <a:latin typeface="Curlz MT"/>
                <a:ea typeface="MS Mincho"/>
              </a:rPr>
              <a:t>La Musica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268360" y="2205000"/>
            <a:ext cx="489600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 u="sng">
                <a:solidFill>
                  <a:srgbClr val="9900cc"/>
                </a:solidFill>
                <a:uFillTx/>
                <a:latin typeface="Curlz MT"/>
              </a:rPr>
              <a:t>Tipo di music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000" spc="-1" strike="noStrike">
                <a:solidFill>
                  <a:srgbClr val="9900cc"/>
                </a:solidFill>
                <a:latin typeface="Curlz MT"/>
              </a:rPr>
              <a:t>*Il classic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000" spc="-1" strike="noStrike">
                <a:solidFill>
                  <a:srgbClr val="9900cc"/>
                </a:solidFill>
                <a:latin typeface="Curlz MT"/>
              </a:rPr>
              <a:t>*il pop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6"/>
          <p:cNvSpPr txBox="1"/>
          <p:nvPr/>
        </p:nvSpPr>
        <p:spPr>
          <a:xfrm>
            <a:off x="6443640" y="5932440"/>
            <a:ext cx="242892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ffff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Ritorno</a:t>
            </a:r>
            <a:endParaRPr b="1" lang="en-US" sz="4800" spc="1" strike="noStrike">
              <a:ln w="15840">
                <a:solidFill>
                  <a:srgbClr val="ffff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pic>
        <p:nvPicPr>
          <p:cNvPr id="107" name="02 Play My Music.mp3" descr=""/>
          <p:cNvPicPr/>
          <p:nvPr/>
        </p:nvPicPr>
        <p:blipFill>
          <a:blip r:embed="rId1"/>
          <a:stretch/>
        </p:blipFill>
        <p:spPr>
          <a:xfrm>
            <a:off x="5643720" y="50007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8" name="02 Clair de lune.mp3" descr=""/>
          <p:cNvPicPr/>
          <p:nvPr/>
        </p:nvPicPr>
        <p:blipFill>
          <a:blip r:embed="rId2"/>
          <a:stretch/>
        </p:blipFill>
        <p:spPr>
          <a:xfrm>
            <a:off x="6072120" y="3857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9545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302353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 rot="21399000">
            <a:off x="178920" y="333360"/>
            <a:ext cx="2952720" cy="5111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 rot="21361200">
            <a:off x="250560" y="549000"/>
            <a:ext cx="1871640" cy="2376360"/>
          </a:xfrm>
          <a:prstGeom prst="rect">
            <a:avLst/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4"/>
          <p:cNvSpPr txBox="1"/>
          <p:nvPr/>
        </p:nvSpPr>
        <p:spPr>
          <a:xfrm rot="21354600">
            <a:off x="1402920" y="1916280"/>
            <a:ext cx="605628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L'Invito</a:t>
            </a:r>
            <a:endParaRPr b="1" lang="en-US" sz="54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sp>
        <p:nvSpPr>
          <p:cNvPr id="55" name="Line 7"/>
          <p:cNvSpPr/>
          <p:nvPr/>
        </p:nvSpPr>
        <p:spPr>
          <a:xfrm>
            <a:off x="826920" y="2997360"/>
            <a:ext cx="0" cy="360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9"/>
          <p:cNvSpPr/>
          <p:nvPr/>
        </p:nvSpPr>
        <p:spPr>
          <a:xfrm flipV="1">
            <a:off x="8172360" y="1483920"/>
            <a:ext cx="0" cy="5111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 flipH="1">
            <a:off x="2124000" y="1484280"/>
            <a:ext cx="60501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party invite"/>
          <p:cNvPicPr/>
          <p:nvPr/>
        </p:nvPicPr>
        <p:blipFill>
          <a:blip r:embed="rId1"/>
          <a:stretch/>
        </p:blipFill>
        <p:spPr>
          <a:xfrm>
            <a:off x="2124000" y="0"/>
            <a:ext cx="484848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2987640" y="2924280"/>
            <a:ext cx="3168720" cy="165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203640" y="2924280"/>
            <a:ext cx="280836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000000"/>
                </a:solidFill>
                <a:latin typeface="Curlz MT"/>
              </a:rPr>
              <a:t>Feste in Bianco  e Ner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Publication1"/>
          <p:cNvPicPr/>
          <p:nvPr/>
        </p:nvPicPr>
        <p:blipFill>
          <a:blip r:embed="rId1"/>
          <a:srcRect l="0" t="0" r="0" b="2438"/>
          <a:stretch/>
        </p:blipFill>
        <p:spPr>
          <a:xfrm>
            <a:off x="1908000" y="0"/>
            <a:ext cx="4970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5"/>
          <p:cNvSpPr txBox="1"/>
          <p:nvPr/>
        </p:nvSpPr>
        <p:spPr>
          <a:xfrm>
            <a:off x="7020000" y="5950080"/>
            <a:ext cx="2050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ffff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Ritorno</a:t>
            </a:r>
            <a:endParaRPr b="1" lang="en-US" sz="4800" spc="1" strike="noStrike">
              <a:ln w="15840">
                <a:solidFill>
                  <a:srgbClr val="ffff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pic>
        <p:nvPicPr>
          <p:cNvPr id="64" name="Picture 6" descr="invite 2"/>
          <p:cNvPicPr/>
          <p:nvPr/>
        </p:nvPicPr>
        <p:blipFill>
          <a:blip r:embed="rId1"/>
          <a:srcRect l="0" t="0" r="0" b="5222"/>
          <a:stretch/>
        </p:blipFill>
        <p:spPr>
          <a:xfrm>
            <a:off x="1692360" y="0"/>
            <a:ext cx="511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 rot="21399000">
            <a:off x="178920" y="333360"/>
            <a:ext cx="2952720" cy="5111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 rot="21361200">
            <a:off x="323640" y="549000"/>
            <a:ext cx="1871640" cy="2376360"/>
          </a:xfrm>
          <a:prstGeom prst="rect">
            <a:avLst/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755640" y="2997360"/>
            <a:ext cx="0" cy="360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755640" y="6597720"/>
            <a:ext cx="7345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"/>
          <p:cNvSpPr/>
          <p:nvPr/>
        </p:nvSpPr>
        <p:spPr>
          <a:xfrm flipV="1">
            <a:off x="8101080" y="1483920"/>
            <a:ext cx="0" cy="5111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 flipH="1">
            <a:off x="2195640" y="1484280"/>
            <a:ext cx="5905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4"/>
          <p:cNvSpPr txBox="1"/>
          <p:nvPr/>
        </p:nvSpPr>
        <p:spPr>
          <a:xfrm rot="21354600">
            <a:off x="1402920" y="1916280"/>
            <a:ext cx="605628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Gli Invitati</a:t>
            </a:r>
            <a:endParaRPr b="1" lang="en-US" sz="54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324000" y="-439920"/>
            <a:ext cx="3671640" cy="8506440"/>
          </a:xfrm>
          <a:prstGeom prst="rect">
            <a:avLst/>
          </a:prstGeom>
          <a:noFill/>
          <a:ln cap="rnd" w="38160">
            <a:solidFill>
              <a:srgbClr val="cc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Silvia- La mamma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Roberto-La padre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Annabella –La sorella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Belle-La sorella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Carolina-La sorella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Antonio-Il fratello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Christos- Il fratello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Joseph-Il nonno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Mariana-La nonna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Sarah- La zia di Lucia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Stephano- Il zio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Isabella- la cugina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5219640" y="1557360"/>
            <a:ext cx="3311640" cy="7774920"/>
          </a:xfrm>
          <a:prstGeom prst="rect">
            <a:avLst/>
          </a:prstGeom>
          <a:noFill/>
          <a:ln cap="rnd" w="38160">
            <a:solidFill>
              <a:srgbClr val="cc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Samuel- il cugino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Sammy- Il cugino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Leila- La zia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Mathew- Il zio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Carly- La cugina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Dee- La cugina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Sam- Il cugino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Taylor- il zio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Tash- la zia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Jasmine- la cugina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Rory- il cugino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Corey- Il cugino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1534320" y="0"/>
            <a:ext cx="5988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 u="sng">
                <a:solidFill>
                  <a:srgbClr val="9900cc"/>
                </a:solidFill>
                <a:uFillTx/>
                <a:latin typeface="Curlz MT"/>
                <a:ea typeface="ＭＳ Ｐゴシック"/>
              </a:rPr>
              <a:t>La Famigli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4500720" y="389160"/>
            <a:ext cx="4465440" cy="6311880"/>
          </a:xfrm>
          <a:prstGeom prst="rect">
            <a:avLst/>
          </a:prstGeom>
          <a:noFill/>
          <a:ln cap="rnd" w="38160">
            <a:solidFill>
              <a:srgbClr val="cc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Lucas- l’amico del cu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Paul- l’amico del cu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Sophie-L’amica del cu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Alexandra-l’amica del cu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Susan- il compagno di n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Crystal- il compagno di n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Valentina- il compagno di n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Bridget- il compagno di n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Sarah- il compagno di n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Melissa- il compagno di n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Kirsty- il compango di n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Kelly- il compagno di n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324000" y="981000"/>
            <a:ext cx="3527280" cy="8140680"/>
          </a:xfrm>
          <a:prstGeom prst="rect">
            <a:avLst/>
          </a:prstGeom>
          <a:noFill/>
          <a:ln cap="rnd" w="38160">
            <a:solidFill>
              <a:srgbClr val="cc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Chloe- l’amica di lav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Marco- l’amico di lav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Paulo- l’amico di lav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Phillip- l’amico di lav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Antonia-l’amico di lav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Luke- l’amico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Marcus- l’amico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Lisa- l’amico di scuo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Jack- l’amico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Nick- l’amico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Steven- l’amico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Julian- l’amico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Andrew- l’amico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Olivia- l’amico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Oliver- il ragazzo di Oli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3145320" y="-171360"/>
            <a:ext cx="279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0" spc="-1" strike="noStrike" u="sng">
                <a:solidFill>
                  <a:srgbClr val="9900cc"/>
                </a:solidFill>
                <a:uFillTx/>
                <a:latin typeface="Curlz MT"/>
                <a:ea typeface="ＭＳ Ｐゴシック"/>
              </a:rPr>
              <a:t>Amici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-242640" y="1119960"/>
            <a:ext cx="5199120" cy="5580360"/>
          </a:xfrm>
          <a:prstGeom prst="rect">
            <a:avLst/>
          </a:prstGeom>
          <a:noFill/>
          <a:ln cap="rnd" w="38160">
            <a:solidFill>
              <a:srgbClr val="99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Michael- l’amico della famig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Claire- l’amica della famig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Connor- l’amico della famig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Billy- l’amico della famig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Lilly- l’amica della famgi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Trent- l’amico della famiglia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Sophia- l’amica di ba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Catherine- l’amico di ba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Jackie- l’amico di ba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Kyle- l’amico di Jack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Mitch- l’amico di K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Brea- l’amica di Cathe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Anthony- il raggazo di B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David-Il fratello di Anth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Bob- il cugino di Anthony e Dav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192600" y="-171360"/>
            <a:ext cx="279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0" spc="-1" strike="noStrike" u="sng">
                <a:solidFill>
                  <a:srgbClr val="9900cc"/>
                </a:solidFill>
                <a:uFillTx/>
                <a:latin typeface="Curlz MT"/>
                <a:ea typeface="ＭＳ Ｐゴシック"/>
              </a:rPr>
              <a:t>Amici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4074120" y="12240"/>
            <a:ext cx="5834880" cy="6677640"/>
          </a:xfrm>
          <a:prstGeom prst="rect">
            <a:avLst/>
          </a:prstGeom>
          <a:noFill/>
          <a:ln cap="rnd" w="38160">
            <a:solidFill>
              <a:srgbClr val="99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Desman- l’amico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Lauren- l’amica di scuo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Elizabeth-L’amica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Patricia-La cugina di Elizabe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Liam-Il cugino di Elizabe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Georgia-L’amica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Darren-L’amica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Kim-la raggaza di Dar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Kimberly-L’amica di Kim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Alana-L’amica di classe mat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Karlo-L’amico di classe mat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Natalie-L’amica di classe mat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Daniella-L’amica di classe psic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Ryan-L’amica di classe psic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Jess-La raggaza di Ry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Jake-Il fratello di J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Susie-L’amica del cuore di J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Anastasia-L’amica del cuore di J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01:35:19Z</dcterms:created>
  <dc:creator>Administrator</dc:creator>
  <dc:description/>
  <dc:language>en-US</dc:language>
  <cp:lastModifiedBy>Samantha</cp:lastModifiedBy>
  <dcterms:modified xsi:type="dcterms:W3CDTF">2008-11-07T13:33:56Z</dcterms:modified>
  <cp:revision>12</cp:revision>
  <dc:subject/>
  <dc:title>Slide 1</dc:title>
</cp:coreProperties>
</file>