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08BC-125F-4467-89D3-4E77A7A6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4EFE-941A-4B24-90BB-1AD38BAD5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DE03-A52B-4A36-B3C3-D30A9EDBB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FE79-1BCF-4490-B221-0157C9008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005-E76E-4944-BC46-7ABAE3C7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BFC-B61F-47E6-AD15-F1A47924B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E5CB-ED07-4281-86D1-75290A427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4237-FB02-47D0-9E47-670FF22D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F32B-01B5-4CAF-A3BF-8BBA06B4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B97A-71EF-4100-8464-C7FC95E7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85AD-6657-4373-87BA-D42A466EB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0893C-4F68-4F13-99E4-99EC59B71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0F9B-A908-462D-A42A-B35A029A8D5C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 rot="21399000">
            <a:off x="178920" y="189000"/>
            <a:ext cx="2952720" cy="511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 rot="21361200">
            <a:off x="323640" y="404280"/>
            <a:ext cx="1871640" cy="237672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4"/>
          <p:cNvSpPr/>
          <p:nvPr/>
        </p:nvSpPr>
        <p:spPr>
          <a:xfrm flipV="1">
            <a:off x="8101080" y="1341360"/>
            <a:ext cx="0" cy="511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2"/>
          <p:cNvSpPr/>
          <p:nvPr/>
        </p:nvSpPr>
        <p:spPr>
          <a:xfrm>
            <a:off x="755640" y="2852640"/>
            <a:ext cx="0" cy="3600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3"/>
          <p:cNvSpPr/>
          <p:nvPr/>
        </p:nvSpPr>
        <p:spPr>
          <a:xfrm>
            <a:off x="755640" y="6453360"/>
            <a:ext cx="734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324000" y="2205000"/>
            <a:ext cx="8648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Il Sedicissimo Compleano 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di Lucia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47" name="Line 15"/>
          <p:cNvSpPr/>
          <p:nvPr/>
        </p:nvSpPr>
        <p:spPr>
          <a:xfrm flipH="1">
            <a:off x="2195640" y="1341360"/>
            <a:ext cx="590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22"/>
          <p:cNvSpPr txBox="1"/>
          <p:nvPr/>
        </p:nvSpPr>
        <p:spPr>
          <a:xfrm>
            <a:off x="755640" y="5715000"/>
            <a:ext cx="20304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Gli Invitati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49" name="WordArt 23"/>
          <p:cNvSpPr txBox="1"/>
          <p:nvPr/>
        </p:nvSpPr>
        <p:spPr>
          <a:xfrm>
            <a:off x="2928960" y="5715000"/>
            <a:ext cx="15652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'Invito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50" name="WordArt 24"/>
          <p:cNvSpPr txBox="1"/>
          <p:nvPr/>
        </p:nvSpPr>
        <p:spPr>
          <a:xfrm>
            <a:off x="4648320" y="5734080"/>
            <a:ext cx="178092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a Spesa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51" name="WordArt 25"/>
          <p:cNvSpPr txBox="1"/>
          <p:nvPr/>
        </p:nvSpPr>
        <p:spPr>
          <a:xfrm>
            <a:off x="6500880" y="5734080"/>
            <a:ext cx="15714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a Musica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4073760" y="1644120"/>
            <a:ext cx="5400360" cy="302004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Hailey- l’amica di scu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Belinda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effrey-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oey-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Fiona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andice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Nathan-il raggazo di Can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arcy- l’amico del cuore di Na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430200" y="2652120"/>
            <a:ext cx="5537520" cy="338580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Bill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William-l’amico del cu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Will-il fratello di Willi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Sally- La sorella di William e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Natasha- la sorella di Sally, Will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Willi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Nina- 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Maree- 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Rachael- l’amica del cuore di Ma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697680" y="549360"/>
            <a:ext cx="279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0" spc="-1" strike="noStrike" u="sng">
                <a:solidFill>
                  <a:srgbClr val="9900cc"/>
                </a:solidFill>
                <a:uFillTx/>
                <a:latin typeface="Curlz MT"/>
                <a:ea typeface="ＭＳ Ｐゴシック"/>
              </a:rPr>
              <a:t>Amic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8"/>
          <p:cNvSpPr txBox="1"/>
          <p:nvPr/>
        </p:nvSpPr>
        <p:spPr>
          <a:xfrm>
            <a:off x="6443640" y="5805360"/>
            <a:ext cx="24289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Ritorno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 rot="21399000">
            <a:off x="250560" y="333360"/>
            <a:ext cx="2952720" cy="511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 rot="21361200">
            <a:off x="323640" y="549000"/>
            <a:ext cx="1871640" cy="237636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755640" y="2997360"/>
            <a:ext cx="0" cy="360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755640" y="6597720"/>
            <a:ext cx="734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 flipV="1">
            <a:off x="8101080" y="1483920"/>
            <a:ext cx="0" cy="511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 flipH="1">
            <a:off x="2195640" y="1484280"/>
            <a:ext cx="590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 rot="21354600">
            <a:off x="1402920" y="1916280"/>
            <a:ext cx="60562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a Spesa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-37440" y="188280"/>
            <a:ext cx="494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 u="sng">
                <a:solidFill>
                  <a:srgbClr val="9900cc"/>
                </a:solidFill>
                <a:uFillTx/>
                <a:latin typeface="Curlz MT"/>
                <a:ea typeface="MS Mincho"/>
              </a:rPr>
              <a:t>La Spesa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MS Mincho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79280" y="593640"/>
            <a:ext cx="3600720" cy="6677640"/>
          </a:xfrm>
          <a:prstGeom prst="rect">
            <a:avLst/>
          </a:prstGeom>
          <a:noFill/>
          <a:ln cap="rnd" w="38160">
            <a:solidFill>
              <a:srgbClr val="99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Novanta piatti di pla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Novanta bicchieri di pla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La posate-novanta coltelli, forchette e cucchia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Ottanta se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Otto tav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Otto tavoglie di pla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Dieci cand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Otto Mazzi di fi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Venti pacci di pall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nero e bi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Trenta stelle nero e bi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Dieci fuo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4140360" y="90720"/>
            <a:ext cx="3744720" cy="5946120"/>
          </a:xfrm>
          <a:prstGeom prst="rect">
            <a:avLst/>
          </a:prstGeom>
          <a:noFill/>
          <a:ln cap="rnd" w="38160">
            <a:solidFill>
              <a:srgbClr val="99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9900cc"/>
                </a:solidFill>
                <a:uFillTx/>
                <a:latin typeface="Curlz MT"/>
                <a:ea typeface="MS Mincho"/>
              </a:rPr>
              <a:t>Il Ci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Rinfresco da lousiana Bruchetti ristor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Men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Pollo e fun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Carbon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Pasta: fettuccini, penne, spaghetti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Pollo e sala di gr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Bistecca e pata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Dol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Torta- compleanno ciocco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( Buon Compleann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Gel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Dolce al form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0"/>
          <p:cNvSpPr txBox="1"/>
          <p:nvPr/>
        </p:nvSpPr>
        <p:spPr>
          <a:xfrm>
            <a:off x="6443640" y="5932440"/>
            <a:ext cx="24289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Ritorno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96" name="Picture 12" descr="birthday_cake_animated1"/>
          <p:cNvPicPr/>
          <p:nvPr/>
        </p:nvPicPr>
        <p:blipFill>
          <a:blip r:embed="rId1"/>
          <a:stretch/>
        </p:blipFill>
        <p:spPr>
          <a:xfrm>
            <a:off x="7308720" y="2924280"/>
            <a:ext cx="16192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 rot="21399000">
            <a:off x="250560" y="333360"/>
            <a:ext cx="2952720" cy="511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rot="21361200">
            <a:off x="323640" y="549000"/>
            <a:ext cx="1871640" cy="237636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755640" y="2997360"/>
            <a:ext cx="0" cy="360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755640" y="6597720"/>
            <a:ext cx="734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 flipV="1">
            <a:off x="8101080" y="1483920"/>
            <a:ext cx="0" cy="511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 flipH="1">
            <a:off x="2195640" y="1484280"/>
            <a:ext cx="590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 rot="21349200">
            <a:off x="1402920" y="1916280"/>
            <a:ext cx="60562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a Musica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784160" y="183240"/>
            <a:ext cx="603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0" spc="-1" strike="noStrike" u="sng">
                <a:solidFill>
                  <a:srgbClr val="9900cc"/>
                </a:solidFill>
                <a:uFillTx/>
                <a:latin typeface="Curlz MT"/>
                <a:ea typeface="MS Mincho"/>
              </a:rPr>
              <a:t>La Musica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268360" y="2205000"/>
            <a:ext cx="489600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 u="sng">
                <a:solidFill>
                  <a:srgbClr val="9900cc"/>
                </a:solidFill>
                <a:uFillTx/>
                <a:latin typeface="Curlz MT"/>
              </a:rPr>
              <a:t>Tipo di mus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9900cc"/>
                </a:solidFill>
                <a:latin typeface="Curlz MT"/>
              </a:rPr>
              <a:t>*Il classic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9900cc"/>
                </a:solidFill>
                <a:latin typeface="Curlz MT"/>
              </a:rPr>
              <a:t>*il po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6"/>
          <p:cNvSpPr txBox="1"/>
          <p:nvPr/>
        </p:nvSpPr>
        <p:spPr>
          <a:xfrm>
            <a:off x="6443640" y="5932440"/>
            <a:ext cx="24289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Ritorno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107" name="02 Play My Music.mp3" descr=""/>
          <p:cNvPicPr/>
          <p:nvPr/>
        </p:nvPicPr>
        <p:blipFill>
          <a:blip r:embed="rId1"/>
          <a:stretch/>
        </p:blipFill>
        <p:spPr>
          <a:xfrm>
            <a:off x="5643720" y="5000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02 Clair de lune.mp3" descr=""/>
          <p:cNvPicPr/>
          <p:nvPr/>
        </p:nvPicPr>
        <p:blipFill>
          <a:blip r:embed="rId2"/>
          <a:stretch/>
        </p:blipFill>
        <p:spPr>
          <a:xfrm>
            <a:off x="6072120" y="3857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9545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02353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 rot="21399000">
            <a:off x="178920" y="333360"/>
            <a:ext cx="2952720" cy="511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 rot="21361200">
            <a:off x="250560" y="549000"/>
            <a:ext cx="1871640" cy="237636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 rot="21354600">
            <a:off x="1402920" y="1916280"/>
            <a:ext cx="60562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'Invito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55" name="Line 7"/>
          <p:cNvSpPr/>
          <p:nvPr/>
        </p:nvSpPr>
        <p:spPr>
          <a:xfrm>
            <a:off x="826920" y="2997360"/>
            <a:ext cx="0" cy="360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8172360" y="1483920"/>
            <a:ext cx="0" cy="511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 flipH="1">
            <a:off x="2124000" y="1484280"/>
            <a:ext cx="6050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party invite"/>
          <p:cNvPicPr/>
          <p:nvPr/>
        </p:nvPicPr>
        <p:blipFill>
          <a:blip r:embed="rId1"/>
          <a:stretch/>
        </p:blipFill>
        <p:spPr>
          <a:xfrm>
            <a:off x="2124000" y="0"/>
            <a:ext cx="48484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2987640" y="2924280"/>
            <a:ext cx="3168720" cy="165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203640" y="2924280"/>
            <a:ext cx="28083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Curlz MT"/>
              </a:rPr>
              <a:t>Feste in Bianco  e Ner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Publication1"/>
          <p:cNvPicPr/>
          <p:nvPr/>
        </p:nvPicPr>
        <p:blipFill>
          <a:blip r:embed="rId1"/>
          <a:srcRect l="0" t="0" r="0" b="2438"/>
          <a:stretch/>
        </p:blipFill>
        <p:spPr>
          <a:xfrm>
            <a:off x="1908000" y="0"/>
            <a:ext cx="4970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5"/>
          <p:cNvSpPr txBox="1"/>
          <p:nvPr/>
        </p:nvSpPr>
        <p:spPr>
          <a:xfrm>
            <a:off x="7020000" y="5950080"/>
            <a:ext cx="2050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Ritorno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64" name="Picture 6" descr="invite 2"/>
          <p:cNvPicPr/>
          <p:nvPr/>
        </p:nvPicPr>
        <p:blipFill>
          <a:blip r:embed="rId1"/>
          <a:srcRect l="0" t="0" r="0" b="5222"/>
          <a:stretch/>
        </p:blipFill>
        <p:spPr>
          <a:xfrm>
            <a:off x="1692360" y="0"/>
            <a:ext cx="511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 rot="21399000">
            <a:off x="178920" y="333360"/>
            <a:ext cx="2952720" cy="511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 rot="21361200">
            <a:off x="323640" y="549000"/>
            <a:ext cx="1871640" cy="237636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755640" y="2997360"/>
            <a:ext cx="0" cy="360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755640" y="6597720"/>
            <a:ext cx="734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V="1">
            <a:off x="8101080" y="1483920"/>
            <a:ext cx="0" cy="511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195640" y="1484280"/>
            <a:ext cx="590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 rot="21354600">
            <a:off x="1402920" y="1916280"/>
            <a:ext cx="60562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Gli Invitati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324000" y="-439920"/>
            <a:ext cx="3671640" cy="850644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ilvia- La mamm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Roberto-La padre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Annabella –La sorell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Belle-La sorell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arolina-La sorell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Antonio-Il fratell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hristos- Il fratell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oseph-Il non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Mariana-La nonn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arah- La zia di Lucia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tephano- Il zi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Isabella- la cugin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219640" y="1557360"/>
            <a:ext cx="3311640" cy="777492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amuel- il cugi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ammy- Il cugi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Leila- La zi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Mathew- Il zi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arly- La cugin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ee- La cugin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am- Il cugi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Taylor- il zi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Tash- la zi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asmine- la cugin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Rory- il cugi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orey- Il cugi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534320" y="0"/>
            <a:ext cx="598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 u="sng">
                <a:solidFill>
                  <a:srgbClr val="9900cc"/>
                </a:solidFill>
                <a:uFillTx/>
                <a:latin typeface="Curlz MT"/>
                <a:ea typeface="ＭＳ Ｐゴシック"/>
              </a:rPr>
              <a:t>La Famigli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500720" y="389160"/>
            <a:ext cx="4465440" cy="631188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Lucas- l’amico del cu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Paul- l’amico del cu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Sophie-L’amica del cu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Alexandra-l’amica del cu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Susan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Crystal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Valentina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Bridget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Sarah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Melissa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Kirsty- il compang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Kelly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24000" y="981000"/>
            <a:ext cx="3527280" cy="814068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Chloe- l’amica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Marco- l’amico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Paulo- l’amico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Phillip- l’amico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Antonia-l’amico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Luke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Marcus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Lisa- l’amico di scu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Jack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Nick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Steven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Julian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Andrew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Olivia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Oliver- il ragazzo di Oli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3145320" y="-171360"/>
            <a:ext cx="279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0" spc="-1" strike="noStrike" u="sng">
                <a:solidFill>
                  <a:srgbClr val="9900cc"/>
                </a:solidFill>
                <a:uFillTx/>
                <a:latin typeface="Curlz MT"/>
                <a:ea typeface="ＭＳ Ｐゴシック"/>
              </a:rPr>
              <a:t>Amic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-242640" y="1119960"/>
            <a:ext cx="5199120" cy="5580360"/>
          </a:xfrm>
          <a:prstGeom prst="rect">
            <a:avLst/>
          </a:prstGeom>
          <a:noFill/>
          <a:ln cap="rnd" w="38160">
            <a:solidFill>
              <a:srgbClr val="99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Michael- l’amico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laire- l’amica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onnor- l’amico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Billy- l’amico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Lilly- l’amica della famg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Trent- l’amico della famiglia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ophia- l’amica di ba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atherine- l’amico di ba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ackie- l’amico di ba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Kyle- l’amico di Jack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Mitch- l’amico di K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Brea- l’amica di Cathe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Anthony- il raggazo di B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avid-Il fratello di Anth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Bob- il cugino di Anthony e Dav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92600" y="-171360"/>
            <a:ext cx="279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0" spc="-1" strike="noStrike" u="sng">
                <a:solidFill>
                  <a:srgbClr val="9900cc"/>
                </a:solidFill>
                <a:uFillTx/>
                <a:latin typeface="Curlz MT"/>
                <a:ea typeface="ＭＳ Ｐゴシック"/>
              </a:rPr>
              <a:t>Amic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074120" y="12240"/>
            <a:ext cx="5834880" cy="6677640"/>
          </a:xfrm>
          <a:prstGeom prst="rect">
            <a:avLst/>
          </a:prstGeom>
          <a:noFill/>
          <a:ln cap="rnd" w="38160">
            <a:solidFill>
              <a:srgbClr val="99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esman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Lauren- l’amica di scu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Elizabeth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Patricia-La cugina di Elizab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Liam-Il cugino di Elizab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Georgia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arren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Kim-la raggaza di Dar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Kimberly-L’amica di Kim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Alana-L’amica di classe mat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Karlo-L’amico di classe mat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Natalie-L’amica di classe mat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aniella-L’amica di classe psic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Ryan-L’amica di classe psic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ess-La raggaza di R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ake-Il fratello di J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usie-L’amica del cuore di J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Anastasia-L’amica del cuore di J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01:35:19Z</dcterms:created>
  <dc:creator>Administrator</dc:creator>
  <dc:description/>
  <dc:language>en-US</dc:language>
  <cp:lastModifiedBy>Samantha</cp:lastModifiedBy>
  <dcterms:modified xsi:type="dcterms:W3CDTF">2008-11-07T13:33:56Z</dcterms:modified>
  <cp:revision>12</cp:revision>
  <dc:subject/>
  <dc:title>Slide 1</dc:title>
</cp:coreProperties>
</file>